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9.gif" ContentType="image/gif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gif" ContentType="image/gif"/>
  <Override PartName="/ppt/media/image3.jpeg" ContentType="image/jpeg"/>
  <Override PartName="/ppt/media/image12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731-672E-489A-B0DB-943BDDFA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F70-6780-4081-98AB-F10E3183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3BF65-F7FE-4E48-BEBD-57CB878D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009CB-5FBE-4DC7-ADF2-B1DF747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87F34-B69F-4400-8134-2A7CB7D7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8AB16-9052-4D81-A833-E41AB453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1A165-FA31-4DB5-94C1-6E120A1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6DA8E-20DC-42F1-8121-D4A6341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6796DC-17F7-4D99-B95D-4CDC7D9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6013E-CEE2-48E8-8CBA-5D249629B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45B36-2FA4-46E8-BA46-8564B9BA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01F36-81E5-40B8-B03B-E462D1DC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35F-20C5-458E-8EA7-F52C46DA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C2D8A-D8FC-4802-B1BE-D3ED5A3A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EF9EA-CA6D-431A-B1AF-ECAE6EDE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49133-7A6B-4F27-9F39-80C262E5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CEFAE-4DA7-45BA-8A07-AD83309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FE42-DFC4-4E57-B67D-27BA4FEA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9DF5A-1449-4A21-A59F-BE66E027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78DDB-2021-4439-936E-EFBC4B2D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2FA27-F775-458F-9501-89C1DB61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04380-C910-4CA8-8FE2-EA35FFB5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69807-E2C7-4D27-8D99-7031FFF3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3D5-3F26-43BE-91B7-0FFE357E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4B537-A57D-49A1-9433-C70CC713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C1B4F-A0A3-42BD-9CF0-5D522756F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1A80B-1EAD-484A-9A91-6A8F5462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8948-177A-46F6-A788-8FCB1CBA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6C3F7-CC62-4012-9ED4-5C9E8CC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D9DB-D901-4764-BE27-4443C612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9DDBF-E2ED-4BAE-852E-03CD5C98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A9A12-C0C9-48D1-80DF-69321B4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09C50-EB98-4F90-A0D1-5B8C53D8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A4201-430F-4136-A433-5CA1B598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8BF6-7585-44A5-B3CA-65962763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64F58-7CD0-4ABB-B244-70164C05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410D3-DBBF-4007-BF6B-941490A9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7561F-770F-461E-9A08-06216ADC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3A7BF-7074-43C5-B82D-B5BF2FC2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94A52-1B93-4899-BD0B-F4804D59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A907F-B27E-4080-92A7-00B23FA3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324CC-26F1-4E6B-888B-13CA9BB2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9335E-EC79-4D7E-A3F7-7BB229C1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08DC3-E441-47AD-A000-9752062A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30FFF-ED1E-4B8E-B52F-D22012A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7245-899E-47AF-BDA2-EDC00733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E3B9D0-8F1C-4694-83A4-2B88238D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7E3CC-CE9D-4D58-8036-F365FF9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1FE56-D6BA-48DC-BFCF-F83C664C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ADF73-3D70-4ED3-B4E1-5417B0B8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ABFDC-FA47-41C8-AF2A-D2D84702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CCD83-DF94-4DE0-A8BA-E2292A3F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2D0DE1-BBF2-420A-B9AD-E513B2B6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16315-84F2-465E-92D1-0EF77951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BB926-FBE5-4F80-BC16-E01BD501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C504A-82CC-4899-83FD-80A3452C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355F-5CD6-4F9D-A240-A3AC2E1D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E5987C-87D3-4C4E-8003-21216229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F8ECF-FF57-4D2C-9376-1315E10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B15E2-9BAC-4BF6-A57D-3463E52F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89F1AE-D73E-4C8D-8FEF-64971C45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75287-48BE-47F3-8E76-1CBD5E83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C955D-C2E6-48F5-AE07-2D52644C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67625-A982-47E0-9B07-1BCD693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E793AE-CA4A-4840-B9DA-80794654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2EEBA-2307-444D-886F-0C39C836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943593-F8E6-49EC-8552-160D9A6F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F96C-292D-441D-A34A-59705B6C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F4811-DD70-49E4-B4A4-F92F2125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CCD0AC-E9CB-47E0-B2D8-8BD093A5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F7D46-A47D-46AC-887B-D257F40F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83FD9-92E5-4D21-80AF-1D59E86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E0C16-8027-4DE4-99F7-CBCB67E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1FB01-EF9B-45F3-BD05-7F24E25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B265B-4C3B-4528-8235-561FAC3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080AF5-889B-4748-8BEE-31FB0A8C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4EEFA-0897-4087-84D8-A11EB023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2366A-CFBB-40FD-9CCC-CE11362D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EA28-FAA8-4CB9-8840-EF268EFA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51C6B5-51A6-4F09-BEA5-C2F7FD9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5BC7E-8B5B-40A8-ACA8-FAF23E05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B4074-9292-4666-BD81-9881579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B9EA4-DA6E-4EBF-B624-242AB78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43FB3-B97F-48F3-97D8-6BC252EC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56DD6-506F-446C-98CA-250A371A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F0F6E-7250-41D6-8C56-ACB647BE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5F764-DC36-4427-B593-0462C0F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2C925-9DCF-4190-95D5-8EBA442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86F28-53CE-40C3-9544-3CFABB65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2E70-4A8E-4293-A1DF-FBC3062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FCDE3-372B-4852-A612-74EB12AA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6C3B97-D1C7-414C-BA52-2F8EAE856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A0979-0944-40A5-B687-7C71F6DE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699C3-15D5-4FA8-B796-421C893A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AE24C1-A4F7-46C0-873D-2D740CCF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578CA-39C4-4641-BE9A-23B4D644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3B245-14D7-4FD3-8F74-9DA02568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64A2FA-A15A-488A-A2DD-3268BE92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B139F-5E28-437F-A8BD-B39B3C6A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E0AD07-7767-45BC-9518-5CE1A51D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62FD-8514-4323-9D5E-F8431CDD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90A2A-D413-4D8B-B700-9B5115E8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09A66-E2C4-4DBE-A8D4-7E5F8603C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188781-D2BC-477F-A6D1-F0D10B68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F6C36-64FE-4BCB-9975-B2E4A54C4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D34CA-DE30-47AE-8F12-54329B0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4EA4FC-E1C3-4EEF-9D08-C520C98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88744D-B6FE-4F68-8268-B9DB01F4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DA34A-BE22-4182-8620-C1D3A7C8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C0359-548B-4369-BC69-2E3ED039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74E0B-F113-402F-8977-43B652C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5098-BB56-4792-81AE-2646731C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9393-F454-40B4-AB11-B7E53F3D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525BB-B28F-40BE-AACF-7BC7656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ACD141-B005-4656-B545-11CB35CF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7FC0B7-F2BD-4339-B255-4FC1730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7558AD-B8B9-4450-AC7F-BE140B4B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09ECA-55BC-406E-84E1-A2EF65C1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E3A4B8-5880-4D44-B27D-211B0243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DB405-270D-4B9E-8DD9-9365C3E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9515E-6D48-4426-A0FD-0046AFDA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6CFC1-BB3F-45E5-B524-54E7D52B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4A0F5-9D68-48D6-89FA-798CA179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E749-521A-45DC-A802-FF526C5E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B0877F-A49C-4DE2-A2AA-9CEE219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04A5E-59A8-492A-97B9-98A2289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7E1AF-9663-48F7-8A7B-FA7240FF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5BD942-7F72-4CB2-8BC2-C5EC5084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80D3F-AE7A-4FFD-ACF5-C9AA9ED9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6B8EA6-9660-43EA-A288-03C42703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FC7E7-93AE-4B98-BB52-597C1E1E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D7A5F-AD90-4BBB-AFF9-253FDE79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E5F587-CCD4-46EA-896F-91BEC4B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95891-81B8-48F5-BC1E-8B62AD7E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68A-26C0-4810-9EBF-C4CFE4B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9FA64-94E9-41DE-BEE8-AEDC39CF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C6D19-DB44-4073-8106-F40D2A1B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2DE4B-632A-412F-AB53-52402C1B2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19067-FCD1-4B3F-9084-BB3C368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7A7EA-0568-4A8A-ABE7-44751DFE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D5077-FBCB-4E05-8B63-0FC55A9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CD98E0-274D-423F-998B-3E07FEBE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C8E55-A80F-4DD1-950D-5ED605BA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00F988-64D7-4FC7-A608-689E42D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EF6B0-4157-44B6-81CD-AC12D3CA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2A1E-E97B-40A2-AE1D-7A9F312F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4688F-DF3A-4CAE-97AD-4029F46C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A7A09-0321-45F7-A2A0-F2AAB907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EE9355-F899-432E-B002-4C5E2E27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8635BE-79B2-49DB-AA11-27CB31DD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821952-ABB3-42C9-BC01-12DF0EA6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DA7C48-BC4E-42A8-82EE-B2CE0503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D286D-4777-4C19-BCF1-E80676C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C29495-1DD6-41ED-AEFD-52E2EB6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AC394-6AC5-4DFB-A5DB-1B68AEE3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E66B25-4CF8-49CA-904F-456A19F1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ECB8-493C-4795-8F6D-0ED22BB0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F9D88E-B2E7-4842-9B67-09D1544A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9D2092-A9F7-4916-B789-4FDD95A9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11926-8985-4075-A509-3E82DA05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87205-4511-4436-A5B8-E4D6224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45D29-C7E7-4FAE-8AEC-DD52AF9F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7FFE21-5B5E-47CC-9E62-31A75976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794B2-FB22-4FFD-B5BC-A8AF0EBA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CC868-1301-4E76-A96A-CC0CB009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A163B-8F25-4DC9-8AE8-084D781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117026-2687-4DA2-A070-87D90E4C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96D1-E766-4280-AD31-96CBBC0A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1C68D-C7CF-49B6-8346-8259BDE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B07126-630E-4267-A4DD-57617C8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2D3BD9-D287-4EEA-B48A-F1E631E0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49AB3-5C06-4927-B8D3-B14C1BD3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07AA14-E303-4CB7-BAE2-5278ADD3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9760C8-0E6D-43FE-B560-EA647FE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18E75-DCD6-438E-A1FF-DED9F21F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FA118-FBD8-4A1B-A5C7-7CA60557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29202-578E-43EF-A3A5-C4BC178E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FFFE5-A3CA-4CE1-B60E-2ED790F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80C3-0F4D-4263-B75E-EB053F92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A867C-2363-403D-B3ED-D2AF1E2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38BDFE-8056-43B4-B9AF-7C9C00A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B1512-C80B-4C08-B29A-5EEE1E57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61766D-3CAB-4406-B801-DAF33099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3F838-0961-4142-A1A0-241895F2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71C41B-D22B-4450-974A-86C56367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998824-3851-475A-B42F-9539837C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C74352-CEEE-466F-B754-9B5243C2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C2204-A1A0-4FC2-87B6-1A6C533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0893D0-00CC-44C1-BBCD-6FA1BE4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35614-6E9F-40F9-9579-3BFF1C75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5DFECC-7CE1-4A2B-86C5-1D5B41DC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4151A-B8DF-49B3-BB5C-12E69AC9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C61D2-EC1D-4654-A8D3-C212105D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93AB38-9834-418E-B3E9-B8C7C44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40CEC8-6468-49E7-B83E-43CE88EA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CAF512-5821-4BF3-B519-06706BD1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A88BBF-047B-48B9-B3C8-A71A0843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CDE35-85BB-4A81-8A67-7336E523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99274C-9CDD-404B-B62D-86FE6B1E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FA625-66B7-4CD6-B6A2-F5E0D91B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18EB-1431-4D65-B420-D9E3CF1C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E2B675-0A2D-4C7D-91A9-A52B6A2D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5451E5-AC01-4C6B-A6E0-21E8AD6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28DA35-D169-4E5A-B0D8-C623538C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85763C-4296-457D-A075-AB303FC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67C652-ADB5-438E-AF75-54C4802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20AA6-02CC-4B52-888D-A6774B87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7C51F-4BAC-4C19-8BDC-F899C85C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233EC7-75DD-45DC-80BA-25E62706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7A962-6CC9-4FC3-B9B0-D4FD357C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D36B7C-23B8-4C36-AE8D-412CAD67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F5895-A341-40E6-9721-4A06782E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20DCCC-1B4C-494A-99DC-3772774B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404184-57E4-4904-9F69-84CBA9F2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10EB03-0159-4050-8130-22EA5CB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B7BDF-B793-4256-A914-9C7427CA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9B4D8-F7F4-44A2-945B-621197CE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CD6130-F43E-40D2-8840-7C383CA5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7D2C3-7895-4455-9B87-AE0EF47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145A84-4B78-403D-A9BF-5F228976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BF3510-68A1-4072-82F8-17707CA4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F58FD4-9C52-4B9F-BD64-92C6EF8B5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330-33EA-4AE9-9F82-752236E2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2889-7019-4A98-A84B-6276C4AC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D1C2AC-EA98-41E8-BE4D-6D9A7999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AF62EF-8999-42BF-8A65-26CA8587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A06636-6FBC-4064-9243-7AC59F0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B3A56-0271-4062-B4AE-3DBB12E4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6046FF-7DB1-4A43-BFEA-F6B5CB84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76912E-729C-4A70-95B0-92BC57B4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618A28-0ADE-4606-9400-7E3EB985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B4400E-1BE1-4469-BE1C-FF038157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BD4C7C-37E7-48D2-954D-FB3FDDA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F1545D-CCC0-465B-940C-35E6800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768FB-FA8C-47EA-BB55-17C58CC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9F9135-82F7-4E66-B76B-FD20543A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F112C3-8E11-4682-83A7-57964B9B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603125-FBEA-449D-BEDD-5449D7A3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ED0E46-C899-426B-B8FF-DBB728BD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B1605B-6E04-4969-85D6-BC438951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E595F2-7928-468F-9EB3-6846AED4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E1902F-2E3F-4594-AFD5-4159E4C9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7D8EA4-7D36-477E-9DEC-79936A07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F79AD7-687B-4702-8D49-14315292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C5BA51-6595-4201-8F63-A88296FC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2C73B-5F8B-4A1C-BAB2-EB441FCF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F7C372-712E-4659-ABEB-E97330B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12C541-1C04-43F3-B205-0DB56D3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94E564-4D58-4D0F-AE87-3916C440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EFB5A4-2F99-423F-ADE0-D29FCABC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89F202-ADAA-4775-BDF4-84B0CB24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5AABB3-0C63-4688-85CE-B90F232D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62DA02-C5B2-4E64-9922-639D0521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275F94-50BF-4F70-9FA8-655DFDEB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B71007-F94C-4B3E-BCDB-D82CB50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1B274B-1002-4B03-958F-5C2CC758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3D38-9922-4E43-A65D-4C5350FB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3A87D2-EE65-422B-BA76-3F4B33E3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EE48BA-EF8A-4EBE-851F-3C27056C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B08D22-9503-4FAF-AA43-1078418B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F02E27-0C28-4E5A-A7DC-6A9D455A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750B8C-17F9-4BD3-8780-C953DB7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51485B-F816-4157-9A7A-D11FDA86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903932-990D-4C61-A930-225044F5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96DF8C-E821-41AE-8BC9-E849DE9A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F2AD72-5D66-47A9-ACCB-934CB381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1FAD08-633F-4CC8-98DD-94F979B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A3002-44E5-455C-AA51-1D11E1D4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78B326-5B0C-493C-9C7B-A096192A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2C17E0-14D7-489A-97D3-283E9BB6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367604-467D-4153-B09D-9EF7D126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58A04B-9978-4FAA-8567-F567E27C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750556-9710-401B-A820-DADBF41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E0951E-B624-46F8-AC09-0F16F5B0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9A03FB-0C19-47A3-B651-6C17322C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6FD460-CDE6-48EF-A11A-DFF2CF96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56C555-1721-4CCC-94CD-541DAD01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4A39A1-1230-4080-A7BE-DFF43408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88CD-6589-4070-8FC5-F9585483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E143EC-3B7D-4A93-8E52-EAD0E07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447A09-DEFC-4C36-A5DB-1462DC1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AF2CBE-E20F-44C0-85DF-72D3693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B6FA12-6314-49D5-A0FF-1F70F6A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E7836D-56EC-40D7-9280-33EC6AD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DD14B3-24BD-4477-8DB9-EA459685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D4069B-D143-48C2-B45D-CA907546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3B6540-746D-4AFB-9D03-BB29249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A53901-C11C-492A-AB5F-B0A7830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BDB798-E7F6-49AA-872A-3502DE9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5B3C-CEE8-4A3E-B424-F2F4F77B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0AA6B4-912D-4174-BD15-C4791C6E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D0C62B-B32A-4B34-8F50-25C79276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2C6FEC-F480-4274-BE86-D2D35726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E92292-CB14-4721-B49F-C158FEF2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6E5C4B-BEA4-4582-8EDC-35BE91C1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EB95FE-608D-4558-AC03-99DDE089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E6C683-56CD-4A75-B95B-7056A483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075525-9237-4B8E-BE22-5FDF70FD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70CD61-D48E-491A-8D6A-0AD620C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D33906-AB51-4A2F-8475-FB12B13C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F48A8-8D98-42B2-8EBE-4D90C756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82E2A1-4A0E-49D4-8B83-9A9FBC2B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16E16C-50C8-414D-A6DB-90E489B9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0F1D9B-9509-4339-B11E-1C6FAD31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6B0F05-431C-4979-9EC6-D93E25D3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6DD0E0-3661-4C45-B7DD-97404C9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1BDC52F-2D52-40B5-A17D-597A745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6FB8A8-3F47-4D0B-B76C-D4374C20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9642DD-AFF2-4876-9F3A-2E4E575A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3B55BF7-B452-4F26-B83C-FCFF88F6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80C5F9-3AE7-4938-95BF-EF00C6C1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7CA0-5E0F-4843-AAB5-87DFC81F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EBCEC0-E732-42A8-8898-C61DF3E8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539BAC-19E0-45B9-8C5F-A398A4A0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928F480-9B86-48A7-80AC-712E7FC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F33874-773D-44F4-B211-B8F372B0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E8CDEA-AB25-4D90-B62D-DAA442B8D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15DE1-9DDD-49A1-95D8-4F44F3DE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84F-7CEF-4641-8C62-B59FE712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ECF97-5C95-46D2-B7A7-4F861B8E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DC144-3461-40CD-9DDB-C98A1EB1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F4A71-2E70-4017-A8EE-B172A39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F6980-D8DE-4C58-B2D4-1FD1EFE1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61E41-C53B-4B25-A9D4-03CE06A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85B9-AD09-41DC-854C-881EEF46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5F54F-6198-417D-845D-DE25DE8D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B62A-C400-4F37-9F0E-8AE94289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8A9A3-9012-403D-B725-B5AE64E8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D794-C6FF-45D1-AB84-7E1E312E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040-4258-441F-9999-0D27C52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CBEEC-4142-4A97-B5A3-D6D1DECB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011A1-6045-42A6-BD4C-8365ED1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D1BC-7E96-4FD5-AD23-7E609151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2C907-D571-4519-8662-0AB0A0E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62C6-CC82-4392-A716-363317AA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1169E-8779-48F6-9527-5C5C903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3B1A2-A557-429F-840C-EF266836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80C06-C021-4422-8770-06E008D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431F-71C6-46B8-9E1E-83715894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0AD5D-D1ED-4C9E-9FE1-8A7CE0A7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D94-C33A-465B-A0E8-DBE43639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E3E6E-5B3C-4E66-8760-B413C65C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EB65-325A-43A6-AA9B-042C8621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F82C2-6A1B-408B-B508-A14AF7E3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5E3AB-2DD0-4E87-AEB5-1FAE37B6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E968D-2F8F-4451-8688-4407E976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6D957-350D-4B60-952E-6712F912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7784E-0DC8-4A68-AF9F-48CC05D0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BDDBF-16AC-4051-8EC0-C68142D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FE277-B5F5-4AB9-B5AB-CF9ED3D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F7CE6-C036-4B83-BA6A-645DE118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AAB-BF82-4A61-BAD8-5C700D4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1F820-F8BC-454A-9226-C3F5F0E9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F9A0-BF3E-4EBD-A8A9-A9384191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D5338-A70A-4041-92C6-F119B4C07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67DE3-E0F1-4680-BC11-2683C3AD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C783-23B5-4BF6-AA6E-1E831F3D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BA30F-F115-4357-B404-236F6540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12CFB-68F3-4398-AFC8-8D1B00D7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08AE9-CBE0-48A0-974C-8367B9D9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D114F-1DF0-4C21-A786-C23F5EDD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016FF-7D17-4AF4-AE15-28DFF85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A15-3345-48FF-8396-776FFD6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AE904-2216-4D40-9CDC-B37A421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31438-B536-42AD-96A0-D937031C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17D5E-A6B2-4FF9-98DF-EDA284F5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F378B-2F8B-49E4-B60D-14FA9AFE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908C3-E8F8-4C2A-924A-854CEB2A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C512E-633D-4B54-8C17-B7F9A0A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92F88-C79A-4190-9BE0-E8D3617A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CB6CE-710A-4E6C-8006-25201B15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F597A-6A3A-4945-B14B-0464F1E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24644-A80E-427A-99CC-E6F337B0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EAC-7AA9-4699-B20A-BD32A79F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70E14-35D6-4A1F-8665-927D5A8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B5C1A-E1CC-4CF6-BAC3-4C38E1F6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CED0D-37BF-4011-B827-8516E91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916C-BD92-49E9-9D79-7C230CE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D31C0-0C46-42C5-93A5-94650482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3BCCC-D332-44AB-991D-96FC396F0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AD841-B27B-42AF-B9A4-5AE88D1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76FCF-A338-47C5-B67F-77291FEE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8C47B-E609-4B27-82EA-22600FE0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472F2-6E58-4B80-B8A8-669EE4CC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9FDC-E1CC-4271-8B02-4C537FA752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F7AA-452E-44A7-9584-280553DB2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2DDB-C3FE-4219-B2F1-9B6C4AEAE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D86-0FA7-44B2-998F-FCD875878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C8D0-A3B1-4D21-9B93-9C5E26401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F3B-C23E-4604-A9A2-3807AF331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2239-08CE-4155-B516-760003310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9E74-6B5C-440A-8EE0-69A7205C2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08E6-76F1-4618-A5CC-2229648B3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DE61-1DFF-412C-B5F7-D0C4BF449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C656-768E-45D8-BFFE-BAB214866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FDB-E865-4FD6-B332-33E9500FBF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58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60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B48A-8A68-4912-B624-F25412EC55A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dt" idx="61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sldNum" idx="63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62B0-E41F-445D-9E87-A13F872448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719C-1845-4E00-BD8D-C95249CA0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F9D2-5E88-4F8B-B66B-A40AA076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A4F-826B-4686-8AED-141CE0E95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B09E-F05F-4217-B320-8416B3BE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C93E-5EDF-4D3D-BDA7-C7700553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63B-1116-4A0E-8E04-57510FC19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4DAF-8AB3-43CD-9E94-DD0D24BAC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51F-CA65-4835-8EA3-F73F063D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0B5F-51AF-4606-9DC7-999D3AF95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40AC-6AB6-412E-9967-850422C8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0C84-64B2-41CF-AFFF-F0F7021C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5A49-DAC6-4DB4-9B3A-55232955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845D-209D-434E-A59B-AE516D6A5AA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3912-D854-4E69-B0B0-DB378FF510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3F6A-FA16-4223-B8BC-F40AFA9C2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9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21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1089-E0EA-4434-B06F-E774A741E8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22"/>
          </p:nvPr>
        </p:nvSpPr>
        <p:spPr>
          <a:xfrm>
            <a:off x="324000" y="54446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4"/>
          </p:nvPr>
        </p:nvSpPr>
        <p:spPr>
          <a:xfrm>
            <a:off x="5724000" y="5013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C34E-FC99-4733-9EC1-90F9760F57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ADED-5D2A-43BE-982E-982B6B792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4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矩形 6" descr=""/>
          <p:cNvPicPr/>
          <p:nvPr/>
        </p:nvPicPr>
        <p:blipFill>
          <a:blip r:embed="rId2"/>
          <a:stretch/>
        </p:blipFill>
        <p:spPr>
          <a:xfrm>
            <a:off x="2346480" y="3402000"/>
            <a:ext cx="4041720" cy="2139840"/>
          </a:xfrm>
          <a:prstGeom prst="rect">
            <a:avLst/>
          </a:prstGeom>
          <a:ln w="0">
            <a:noFill/>
          </a:ln>
        </p:spPr>
      </p:pic>
      <p:sp>
        <p:nvSpPr>
          <p:cNvPr id="1305" name="直接连接符 7"/>
          <p:cNvSpPr/>
          <p:nvPr/>
        </p:nvSpPr>
        <p:spPr>
          <a:xfrm>
            <a:off x="1798560" y="1095480"/>
            <a:ext cx="640872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6" name="矩形 10" descr=""/>
          <p:cNvPicPr/>
          <p:nvPr/>
        </p:nvPicPr>
        <p:blipFill>
          <a:blip r:embed="rId3"/>
          <a:stretch/>
        </p:blipFill>
        <p:spPr>
          <a:xfrm>
            <a:off x="579600" y="981000"/>
            <a:ext cx="8015040" cy="2805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25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Picture 3" descr="5"/>
          <p:cNvPicPr/>
          <p:nvPr/>
        </p:nvPicPr>
        <p:blipFill>
          <a:blip r:embed="rId2"/>
          <a:stretch/>
        </p:blipFill>
        <p:spPr>
          <a:xfrm>
            <a:off x="2340000" y="260280"/>
            <a:ext cx="4427640" cy="909720"/>
          </a:xfrm>
          <a:prstGeom prst="rect">
            <a:avLst/>
          </a:prstGeom>
          <a:ln w="0">
            <a:noFill/>
          </a:ln>
        </p:spPr>
      </p:pic>
      <p:sp>
        <p:nvSpPr>
          <p:cNvPr id="1399" name="Text Box 4"/>
          <p:cNvSpPr/>
          <p:nvPr/>
        </p:nvSpPr>
        <p:spPr>
          <a:xfrm>
            <a:off x="2927520" y="28728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单元重难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Text Box 2"/>
          <p:cNvSpPr/>
          <p:nvPr/>
        </p:nvSpPr>
        <p:spPr>
          <a:xfrm>
            <a:off x="395280" y="1197000"/>
            <a:ext cx="792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Arial"/>
              </a:rPr>
              <a:t>重点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What / Why / Who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Arial"/>
              </a:rPr>
              <a:t>难点：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What / Why / Who ques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Picture 6" descr="hd"/>
          <p:cNvPicPr/>
          <p:nvPr/>
        </p:nvPicPr>
        <p:blipFill>
          <a:blip r:embed="rId2"/>
          <a:stretch/>
        </p:blipFill>
        <p:spPr>
          <a:xfrm>
            <a:off x="7956720" y="5084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7" descr="hd"/>
          <p:cNvPicPr/>
          <p:nvPr/>
        </p:nvPicPr>
        <p:blipFill>
          <a:blip r:embed="rId3"/>
          <a:stretch/>
        </p:blipFill>
        <p:spPr>
          <a:xfrm>
            <a:off x="1859040" y="4581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8" descr="hd"/>
          <p:cNvPicPr/>
          <p:nvPr/>
        </p:nvPicPr>
        <p:blipFill>
          <a:blip r:embed="rId4"/>
          <a:stretch/>
        </p:blipFill>
        <p:spPr>
          <a:xfrm>
            <a:off x="2050920" y="1916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5" descr="小蝶"/>
          <p:cNvPicPr/>
          <p:nvPr/>
        </p:nvPicPr>
        <p:blipFill>
          <a:blip r:embed="rId5"/>
          <a:stretch/>
        </p:blipFill>
        <p:spPr>
          <a:xfrm>
            <a:off x="971640" y="5229360"/>
            <a:ext cx="1143000" cy="142848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6" descr="小蝶"/>
          <p:cNvPicPr/>
          <p:nvPr/>
        </p:nvPicPr>
        <p:blipFill>
          <a:blip r:embed="rId6"/>
          <a:stretch/>
        </p:blipFill>
        <p:spPr>
          <a:xfrm>
            <a:off x="3708360" y="620640"/>
            <a:ext cx="1143000" cy="142884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5" descr="hd"/>
          <p:cNvPicPr/>
          <p:nvPr/>
        </p:nvPicPr>
        <p:blipFill>
          <a:blip r:embed="rId7"/>
          <a:stretch/>
        </p:blipFill>
        <p:spPr>
          <a:xfrm>
            <a:off x="6156360" y="836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6" descr="hd"/>
          <p:cNvPicPr/>
          <p:nvPr/>
        </p:nvPicPr>
        <p:blipFill>
          <a:blip r:embed="rId8"/>
          <a:stretch/>
        </p:blipFill>
        <p:spPr>
          <a:xfrm>
            <a:off x="7002360" y="59436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10" descr="花瓣"/>
          <p:cNvPicPr/>
          <p:nvPr/>
        </p:nvPicPr>
        <p:blipFill>
          <a:blip r:embed="rId9"/>
          <a:stretch/>
        </p:blipFill>
        <p:spPr>
          <a:xfrm>
            <a:off x="179280" y="14842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6" descr="hd"/>
          <p:cNvPicPr/>
          <p:nvPr/>
        </p:nvPicPr>
        <p:blipFill>
          <a:blip r:embed="rId10"/>
          <a:stretch/>
        </p:blipFill>
        <p:spPr>
          <a:xfrm>
            <a:off x="3670200" y="25542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6" descr="hd"/>
          <p:cNvPicPr/>
          <p:nvPr/>
        </p:nvPicPr>
        <p:blipFill>
          <a:blip r:embed="rId11"/>
          <a:stretch/>
        </p:blipFill>
        <p:spPr>
          <a:xfrm>
            <a:off x="666720" y="33130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6" descr="hd"/>
          <p:cNvPicPr/>
          <p:nvPr/>
        </p:nvPicPr>
        <p:blipFill>
          <a:blip r:embed="rId12"/>
          <a:stretch/>
        </p:blipFill>
        <p:spPr>
          <a:xfrm>
            <a:off x="3138480" y="1030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6" descr="hd"/>
          <p:cNvPicPr/>
          <p:nvPr/>
        </p:nvPicPr>
        <p:blipFill>
          <a:blip r:embed="rId13"/>
          <a:stretch/>
        </p:blipFill>
        <p:spPr>
          <a:xfrm>
            <a:off x="4255920" y="5486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7" name="图片 3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2303640" cy="19098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3" descr="5"/>
          <p:cNvPicPr/>
          <p:nvPr/>
        </p:nvPicPr>
        <p:blipFill>
          <a:blip r:embed="rId3"/>
          <a:stretch/>
        </p:blipFill>
        <p:spPr>
          <a:xfrm>
            <a:off x="2771640" y="471600"/>
            <a:ext cx="3613320" cy="1157040"/>
          </a:xfrm>
          <a:prstGeom prst="rect">
            <a:avLst/>
          </a:prstGeom>
          <a:ln w="0">
            <a:noFill/>
          </a:ln>
        </p:spPr>
      </p:pic>
      <p:sp>
        <p:nvSpPr>
          <p:cNvPr id="1309" name="Text Box 4"/>
          <p:cNvSpPr/>
          <p:nvPr/>
        </p:nvSpPr>
        <p:spPr>
          <a:xfrm>
            <a:off x="2855880" y="542880"/>
            <a:ext cx="359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b050"/>
                </a:solidFill>
                <a:latin typeface="华文隶书"/>
                <a:ea typeface="华文隶书"/>
              </a:rPr>
              <a:t>话 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TextBox 1"/>
          <p:cNvSpPr/>
          <p:nvPr/>
        </p:nvSpPr>
        <p:spPr>
          <a:xfrm>
            <a:off x="1187280" y="218448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y favorite subject is sci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TextBox 2"/>
          <p:cNvSpPr/>
          <p:nvPr/>
        </p:nvSpPr>
        <p:spPr>
          <a:xfrm>
            <a:off x="1116000" y="31338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"/>
              </a:rPr>
              <a:t>我最喜欢的学科是科学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Picture 3" descr="5"/>
          <p:cNvPicPr/>
          <p:nvPr/>
        </p:nvPicPr>
        <p:blipFill>
          <a:blip r:embed="rId2"/>
          <a:stretch/>
        </p:blipFill>
        <p:spPr>
          <a:xfrm>
            <a:off x="2771640" y="260280"/>
            <a:ext cx="3456000" cy="903240"/>
          </a:xfrm>
          <a:prstGeom prst="rect">
            <a:avLst/>
          </a:prstGeom>
          <a:ln w="0">
            <a:noFill/>
          </a:ln>
        </p:spPr>
      </p:pic>
      <p:sp>
        <p:nvSpPr>
          <p:cNvPr id="1313" name="Text Box 4"/>
          <p:cNvSpPr/>
          <p:nvPr/>
        </p:nvSpPr>
        <p:spPr>
          <a:xfrm>
            <a:off x="2855880" y="293760"/>
            <a:ext cx="35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四会单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TextBox 1"/>
          <p:cNvSpPr/>
          <p:nvPr/>
        </p:nvSpPr>
        <p:spPr>
          <a:xfrm>
            <a:off x="900000" y="907920"/>
            <a:ext cx="446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特別喜爱的（人或事物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学科；科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3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科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4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体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5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音乐；乐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6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数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7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语文；汉语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汉语的；中国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TextBox 3"/>
          <p:cNvSpPr/>
          <p:nvPr/>
        </p:nvSpPr>
        <p:spPr>
          <a:xfrm>
            <a:off x="1692360" y="15796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avorite (=favourit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TextBox 3"/>
          <p:cNvSpPr/>
          <p:nvPr/>
        </p:nvSpPr>
        <p:spPr>
          <a:xfrm>
            <a:off x="1779480" y="2241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TextBox 3"/>
          <p:cNvSpPr/>
          <p:nvPr/>
        </p:nvSpPr>
        <p:spPr>
          <a:xfrm>
            <a:off x="1692360" y="30160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TextBox 3"/>
          <p:cNvSpPr/>
          <p:nvPr/>
        </p:nvSpPr>
        <p:spPr>
          <a:xfrm>
            <a:off x="971640" y="37162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.E.  (=physical educatio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TextBox 3"/>
          <p:cNvSpPr/>
          <p:nvPr/>
        </p:nvSpPr>
        <p:spPr>
          <a:xfrm>
            <a:off x="1908000" y="44118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TextBox 3"/>
          <p:cNvSpPr/>
          <p:nvPr/>
        </p:nvSpPr>
        <p:spPr>
          <a:xfrm>
            <a:off x="2268360" y="486900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TextBox 3"/>
          <p:cNvSpPr/>
          <p:nvPr/>
        </p:nvSpPr>
        <p:spPr>
          <a:xfrm>
            <a:off x="3203640" y="544500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hin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TextBox 1"/>
          <p:cNvSpPr/>
          <p:nvPr/>
        </p:nvSpPr>
        <p:spPr>
          <a:xfrm>
            <a:off x="5148360" y="973080"/>
            <a:ext cx="396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8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地理（学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9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历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0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1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因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2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3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4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TextBox 3"/>
          <p:cNvSpPr/>
          <p:nvPr/>
        </p:nvSpPr>
        <p:spPr>
          <a:xfrm>
            <a:off x="5508720" y="15699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TextBox 3"/>
          <p:cNvSpPr/>
          <p:nvPr/>
        </p:nvSpPr>
        <p:spPr>
          <a:xfrm>
            <a:off x="565164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TextBox 3"/>
          <p:cNvSpPr/>
          <p:nvPr/>
        </p:nvSpPr>
        <p:spPr>
          <a:xfrm>
            <a:off x="5724360" y="299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3"/>
          <p:cNvSpPr/>
          <p:nvPr/>
        </p:nvSpPr>
        <p:spPr>
          <a:xfrm>
            <a:off x="5724360" y="3763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TextBox 3"/>
          <p:cNvSpPr/>
          <p:nvPr/>
        </p:nvSpPr>
        <p:spPr>
          <a:xfrm>
            <a:off x="5796000" y="44845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TextBox 3"/>
          <p:cNvSpPr/>
          <p:nvPr/>
        </p:nvSpPr>
        <p:spPr>
          <a:xfrm>
            <a:off x="579600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TextBox 3"/>
          <p:cNvSpPr/>
          <p:nvPr/>
        </p:nvSpPr>
        <p:spPr>
          <a:xfrm>
            <a:off x="5724360" y="59961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atur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0" name="Picture 3" descr="5"/>
          <p:cNvPicPr/>
          <p:nvPr/>
        </p:nvPicPr>
        <p:blipFill>
          <a:blip r:embed="rId2"/>
          <a:stretch/>
        </p:blipFill>
        <p:spPr>
          <a:xfrm>
            <a:off x="2771640" y="260280"/>
            <a:ext cx="3456000" cy="903240"/>
          </a:xfrm>
          <a:prstGeom prst="rect">
            <a:avLst/>
          </a:prstGeom>
          <a:ln w="0">
            <a:noFill/>
          </a:ln>
        </p:spPr>
      </p:pic>
      <p:sp>
        <p:nvSpPr>
          <p:cNvPr id="1331" name="Text Box 4"/>
          <p:cNvSpPr/>
          <p:nvPr/>
        </p:nvSpPr>
        <p:spPr>
          <a:xfrm>
            <a:off x="2855880" y="293760"/>
            <a:ext cx="35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四会单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TextBox 1"/>
          <p:cNvSpPr/>
          <p:nvPr/>
        </p:nvSpPr>
        <p:spPr>
          <a:xfrm>
            <a:off x="1403280" y="907920"/>
            <a:ext cx="396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5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空闲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6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妙极的；酷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7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8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19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0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星期日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1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上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TextBox 3"/>
          <p:cNvSpPr/>
          <p:nvPr/>
        </p:nvSpPr>
        <p:spPr>
          <a:xfrm>
            <a:off x="1924200" y="15318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TextBox 3"/>
          <p:cNvSpPr/>
          <p:nvPr/>
        </p:nvSpPr>
        <p:spPr>
          <a:xfrm>
            <a:off x="1889280" y="23194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c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TextBox 3"/>
          <p:cNvSpPr/>
          <p:nvPr/>
        </p:nvSpPr>
        <p:spPr>
          <a:xfrm>
            <a:off x="1871640" y="30402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TextBox 3"/>
          <p:cNvSpPr/>
          <p:nvPr/>
        </p:nvSpPr>
        <p:spPr>
          <a:xfrm>
            <a:off x="1900080" y="36925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TextBox 3"/>
          <p:cNvSpPr/>
          <p:nvPr/>
        </p:nvSpPr>
        <p:spPr>
          <a:xfrm>
            <a:off x="1871640" y="4479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TextBox 3"/>
          <p:cNvSpPr/>
          <p:nvPr/>
        </p:nvSpPr>
        <p:spPr>
          <a:xfrm>
            <a:off x="1871640" y="5203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n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TextBox 3"/>
          <p:cNvSpPr/>
          <p:nvPr/>
        </p:nvSpPr>
        <p:spPr>
          <a:xfrm>
            <a:off x="1900080" y="5919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.M.(=a.m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TextBox 1"/>
          <p:cNvSpPr/>
          <p:nvPr/>
        </p:nvSpPr>
        <p:spPr>
          <a:xfrm>
            <a:off x="4751280" y="907920"/>
            <a:ext cx="396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2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下午；午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3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有用的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;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有益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4.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从</a:t>
            </a: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……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开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5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太太；夫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6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完成；做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7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课；一节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宋体"/>
                <a:ea typeface="Arial"/>
              </a:rPr>
              <a:t>28. </a:t>
            </a:r>
            <a:r>
              <a:rPr b="1" lang="zh-CN" sz="2400" spc="-1" strike="noStrike">
                <a:solidFill>
                  <a:srgbClr val="002060"/>
                </a:solidFill>
                <a:latin typeface="宋体"/>
                <a:ea typeface="Arial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TextBox 3"/>
          <p:cNvSpPr/>
          <p:nvPr/>
        </p:nvSpPr>
        <p:spPr>
          <a:xfrm>
            <a:off x="5248440" y="153180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.M. (=p.m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TextBox 3"/>
          <p:cNvSpPr/>
          <p:nvPr/>
        </p:nvSpPr>
        <p:spPr>
          <a:xfrm>
            <a:off x="5300640" y="22510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TextBox 3"/>
          <p:cNvSpPr/>
          <p:nvPr/>
        </p:nvSpPr>
        <p:spPr>
          <a:xfrm>
            <a:off x="5567400" y="29718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TextBox 3"/>
          <p:cNvSpPr/>
          <p:nvPr/>
        </p:nvSpPr>
        <p:spPr>
          <a:xfrm>
            <a:off x="5567400" y="37638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TextBox 3"/>
          <p:cNvSpPr/>
          <p:nvPr/>
        </p:nvSpPr>
        <p:spPr>
          <a:xfrm>
            <a:off x="5508720" y="44845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TextBox 3"/>
          <p:cNvSpPr/>
          <p:nvPr/>
        </p:nvSpPr>
        <p:spPr>
          <a:xfrm>
            <a:off x="5508720" y="52038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es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TextBox 3"/>
          <p:cNvSpPr/>
          <p:nvPr/>
        </p:nvSpPr>
        <p:spPr>
          <a:xfrm>
            <a:off x="5448240" y="59911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hou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Picture 3" descr="5"/>
          <p:cNvPicPr/>
          <p:nvPr/>
        </p:nvPicPr>
        <p:blipFill>
          <a:blip r:embed="rId2"/>
          <a:stretch/>
        </p:blipFill>
        <p:spPr>
          <a:xfrm>
            <a:off x="2700360" y="189000"/>
            <a:ext cx="3456000" cy="831600"/>
          </a:xfrm>
          <a:prstGeom prst="rect">
            <a:avLst/>
          </a:prstGeom>
          <a:ln w="0">
            <a:noFill/>
          </a:ln>
        </p:spPr>
      </p:pic>
      <p:sp>
        <p:nvSpPr>
          <p:cNvPr id="1349" name="Text Box 4"/>
          <p:cNvSpPr/>
          <p:nvPr/>
        </p:nvSpPr>
        <p:spPr>
          <a:xfrm>
            <a:off x="2916360" y="22068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重要短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"/>
          <p:cNvSpPr/>
          <p:nvPr/>
        </p:nvSpPr>
        <p:spPr>
          <a:xfrm>
            <a:off x="971640" y="981000"/>
            <a:ext cx="3790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我最喜欢的科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2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上体育</a:t>
            </a: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(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课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3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和某人一起玩游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4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第二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5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有趣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6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当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7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在周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8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在左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9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在右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0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谈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1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有空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TextBox 3"/>
          <p:cNvSpPr/>
          <p:nvPr/>
        </p:nvSpPr>
        <p:spPr>
          <a:xfrm>
            <a:off x="3564000" y="110664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y favorite sub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TextBox 3"/>
          <p:cNvSpPr/>
          <p:nvPr/>
        </p:nvSpPr>
        <p:spPr>
          <a:xfrm>
            <a:off x="3241800" y="156060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ave P.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TextBox 3"/>
          <p:cNvSpPr/>
          <p:nvPr/>
        </p:nvSpPr>
        <p:spPr>
          <a:xfrm>
            <a:off x="3760920" y="204624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lay games with sb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TextBox 3"/>
          <p:cNvSpPr/>
          <p:nvPr/>
        </p:nvSpPr>
        <p:spPr>
          <a:xfrm>
            <a:off x="2700360" y="250524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next d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TextBox 3"/>
          <p:cNvSpPr/>
          <p:nvPr/>
        </p:nvSpPr>
        <p:spPr>
          <a:xfrm>
            <a:off x="2451240" y="29941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e fu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TextBox 3"/>
          <p:cNvSpPr/>
          <p:nvPr/>
        </p:nvSpPr>
        <p:spPr>
          <a:xfrm>
            <a:off x="2413080" y="3460680"/>
            <a:ext cx="27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or s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TextBox 3"/>
          <p:cNvSpPr/>
          <p:nvPr/>
        </p:nvSpPr>
        <p:spPr>
          <a:xfrm>
            <a:off x="2536920" y="389556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n Mond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TextBox 3"/>
          <p:cNvSpPr/>
          <p:nvPr/>
        </p:nvSpPr>
        <p:spPr>
          <a:xfrm>
            <a:off x="2617920" y="432432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n the lef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TextBox 3"/>
          <p:cNvSpPr/>
          <p:nvPr/>
        </p:nvSpPr>
        <p:spPr>
          <a:xfrm>
            <a:off x="2522520" y="482436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n the righ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TextBox 3"/>
          <p:cNvSpPr/>
          <p:nvPr/>
        </p:nvSpPr>
        <p:spPr>
          <a:xfrm>
            <a:off x="2536920" y="525312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alk abou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TextBox 3"/>
          <p:cNvSpPr/>
          <p:nvPr/>
        </p:nvSpPr>
        <p:spPr>
          <a:xfrm>
            <a:off x="2700360" y="570708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e fre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Picture 3" descr="5"/>
          <p:cNvPicPr/>
          <p:nvPr/>
        </p:nvPicPr>
        <p:blipFill>
          <a:blip r:embed="rId2"/>
          <a:stretch/>
        </p:blipFill>
        <p:spPr>
          <a:xfrm>
            <a:off x="2700360" y="189000"/>
            <a:ext cx="3456000" cy="831600"/>
          </a:xfrm>
          <a:prstGeom prst="rect">
            <a:avLst/>
          </a:prstGeom>
          <a:ln w="0">
            <a:noFill/>
          </a:ln>
        </p:spPr>
      </p:pic>
      <p:sp>
        <p:nvSpPr>
          <p:cNvPr id="1363" name="Text Box 4"/>
          <p:cNvSpPr/>
          <p:nvPr/>
        </p:nvSpPr>
        <p:spPr>
          <a:xfrm>
            <a:off x="2916360" y="220680"/>
            <a:ext cx="35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重要短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TextBox 1"/>
          <p:cNvSpPr/>
          <p:nvPr/>
        </p:nvSpPr>
        <p:spPr>
          <a:xfrm>
            <a:off x="1042920" y="1052640"/>
            <a:ext cx="3575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2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在周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3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上午与下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4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认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5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繁忙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6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从那以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7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从</a:t>
            </a: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……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到</a:t>
            </a: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…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8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在星期五的下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19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有用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20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完成（做</a:t>
            </a: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)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某事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21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上一节美术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宋体"/>
                <a:ea typeface="Arial"/>
              </a:rPr>
              <a:t>22. </a:t>
            </a:r>
            <a:r>
              <a:rPr b="1" lang="zh-CN" sz="2200" spc="-1" strike="noStrike">
                <a:solidFill>
                  <a:srgbClr val="002060"/>
                </a:solidFill>
                <a:latin typeface="宋体"/>
                <a:ea typeface="Arial"/>
              </a:rPr>
              <a:t>想干某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TextBox 3"/>
          <p:cNvSpPr/>
          <p:nvPr/>
        </p:nvSpPr>
        <p:spPr>
          <a:xfrm>
            <a:off x="2712960" y="11253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n Tuesda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TextBox 3"/>
          <p:cNvSpPr/>
          <p:nvPr/>
        </p:nvSpPr>
        <p:spPr>
          <a:xfrm>
            <a:off x="3144960" y="16002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.m.and p.m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TextBox 3"/>
          <p:cNvSpPr/>
          <p:nvPr/>
        </p:nvSpPr>
        <p:spPr>
          <a:xfrm>
            <a:off x="2557440" y="20923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ink o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TextBox 3"/>
          <p:cNvSpPr/>
          <p:nvPr/>
        </p:nvSpPr>
        <p:spPr>
          <a:xfrm>
            <a:off x="2700360" y="255276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e bus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TextBox 3"/>
          <p:cNvSpPr/>
          <p:nvPr/>
        </p:nvSpPr>
        <p:spPr>
          <a:xfrm>
            <a:off x="2860560" y="299088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fter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TextBox 3"/>
          <p:cNvSpPr/>
          <p:nvPr/>
        </p:nvSpPr>
        <p:spPr>
          <a:xfrm>
            <a:off x="3348000" y="342900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rom …to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TextBox 3"/>
          <p:cNvSpPr/>
          <p:nvPr/>
        </p:nvSpPr>
        <p:spPr>
          <a:xfrm>
            <a:off x="3527280" y="3895560"/>
            <a:ext cx="38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on Friday afterno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TextBox 3"/>
          <p:cNvSpPr/>
          <p:nvPr/>
        </p:nvSpPr>
        <p:spPr>
          <a:xfrm>
            <a:off x="2712960" y="433692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be usefu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TextBox 3"/>
          <p:cNvSpPr/>
          <p:nvPr/>
        </p:nvSpPr>
        <p:spPr>
          <a:xfrm>
            <a:off x="3446640" y="4765680"/>
            <a:ext cx="23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inish (doing) st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TextBox 3"/>
          <p:cNvSpPr/>
          <p:nvPr/>
        </p:nvSpPr>
        <p:spPr>
          <a:xfrm>
            <a:off x="3446640" y="5221440"/>
            <a:ext cx="45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have an art less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TextBox 3"/>
          <p:cNvSpPr/>
          <p:nvPr/>
        </p:nvSpPr>
        <p:spPr>
          <a:xfrm>
            <a:off x="3002040" y="5678640"/>
            <a:ext cx="23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want to do st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Picture 3" descr="5"/>
          <p:cNvPicPr/>
          <p:nvPr/>
        </p:nvPicPr>
        <p:blipFill>
          <a:blip r:embed="rId2"/>
          <a:stretch/>
        </p:blipFill>
        <p:spPr>
          <a:xfrm>
            <a:off x="2771640" y="115920"/>
            <a:ext cx="3456000" cy="831960"/>
          </a:xfrm>
          <a:prstGeom prst="rect">
            <a:avLst/>
          </a:prstGeom>
          <a:ln w="0">
            <a:noFill/>
          </a:ln>
        </p:spPr>
      </p:pic>
      <p:sp>
        <p:nvSpPr>
          <p:cNvPr id="1377" name="Text Box 4"/>
          <p:cNvSpPr/>
          <p:nvPr/>
        </p:nvSpPr>
        <p:spPr>
          <a:xfrm>
            <a:off x="2855880" y="115920"/>
            <a:ext cx="35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核心句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TextBox 1"/>
          <p:cNvSpPr/>
          <p:nvPr/>
        </p:nvSpPr>
        <p:spPr>
          <a:xfrm>
            <a:off x="250920" y="1023840"/>
            <a:ext cx="88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1.— What’s your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?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你最喜欢的科目是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 —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s art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我最喜欢的科目是美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2.—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do you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P.E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？你为什么喜欢体育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 —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t’s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因为它有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3.I lik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我喜欢星期一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,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因为我要上体育课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4.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那是肯定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5.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favorite subject?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戴维最喜欢的科目是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TextBox 3"/>
          <p:cNvSpPr/>
          <p:nvPr/>
        </p:nvSpPr>
        <p:spPr>
          <a:xfrm>
            <a:off x="2473200" y="1243080"/>
            <a:ext cx="43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avorite    su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TextBox 3"/>
          <p:cNvSpPr/>
          <p:nvPr/>
        </p:nvSpPr>
        <p:spPr>
          <a:xfrm>
            <a:off x="755640" y="189216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y   favorite   su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TextBox 3"/>
          <p:cNvSpPr/>
          <p:nvPr/>
        </p:nvSpPr>
        <p:spPr>
          <a:xfrm>
            <a:off x="844560" y="246204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hy               l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TextBox 3"/>
          <p:cNvSpPr/>
          <p:nvPr/>
        </p:nvSpPr>
        <p:spPr>
          <a:xfrm>
            <a:off x="971640" y="304020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ecause           f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TextBox 3"/>
          <p:cNvSpPr/>
          <p:nvPr/>
        </p:nvSpPr>
        <p:spPr>
          <a:xfrm>
            <a:off x="1476360" y="36878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onday   because         have   P.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TextBox 3"/>
          <p:cNvSpPr/>
          <p:nvPr/>
        </p:nvSpPr>
        <p:spPr>
          <a:xfrm>
            <a:off x="468360" y="49165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at’s  for     s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TextBox 3"/>
          <p:cNvSpPr/>
          <p:nvPr/>
        </p:nvSpPr>
        <p:spPr>
          <a:xfrm>
            <a:off x="539640" y="54878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hat’s  David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3" descr="5"/>
          <p:cNvPicPr/>
          <p:nvPr/>
        </p:nvPicPr>
        <p:blipFill>
          <a:blip r:embed="rId2"/>
          <a:stretch/>
        </p:blipFill>
        <p:spPr>
          <a:xfrm>
            <a:off x="2771640" y="115920"/>
            <a:ext cx="3456000" cy="831960"/>
          </a:xfrm>
          <a:prstGeom prst="rect">
            <a:avLst/>
          </a:prstGeom>
          <a:ln w="0">
            <a:noFill/>
          </a:ln>
        </p:spPr>
      </p:pic>
      <p:sp>
        <p:nvSpPr>
          <p:cNvPr id="1387" name="Text Box 4"/>
          <p:cNvSpPr/>
          <p:nvPr/>
        </p:nvSpPr>
        <p:spPr>
          <a:xfrm>
            <a:off x="2855880" y="115920"/>
            <a:ext cx="35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核心句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TextBox 1"/>
          <p:cNvSpPr/>
          <p:nvPr/>
        </p:nvSpPr>
        <p:spPr>
          <a:xfrm>
            <a:off x="250920" y="1023840"/>
            <a:ext cx="882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6.—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s the class? —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这节课在什么时候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 —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t’s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.—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它在星期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7.—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you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these subjec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   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你对这些学科有什么看法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 —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It is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but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它（科学）很难但是有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8.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Saturday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咱们周六见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9.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宋体"/>
                <a:ea typeface="Arial"/>
              </a:rPr>
              <a:t>       </a:t>
            </a:r>
            <a:r>
              <a:rPr b="1" lang="en-US" sz="2000" spc="-1" strike="noStrike">
                <a:solidFill>
                  <a:srgbClr val="002060"/>
                </a:solidFill>
                <a:latin typeface="宋体"/>
                <a:ea typeface="Arial"/>
              </a:rPr>
              <a:t> your e-rnail.</a:t>
            </a: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Arial"/>
              </a:rPr>
              <a:t>谢谢你的电子邮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TextBox 3"/>
          <p:cNvSpPr/>
          <p:nvPr/>
        </p:nvSpPr>
        <p:spPr>
          <a:xfrm>
            <a:off x="773280" y="123840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TextBox 3"/>
          <p:cNvSpPr/>
          <p:nvPr/>
        </p:nvSpPr>
        <p:spPr>
          <a:xfrm>
            <a:off x="1547640" y="1892160"/>
            <a:ext cx="43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on   Tues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TextBox 3"/>
          <p:cNvSpPr/>
          <p:nvPr/>
        </p:nvSpPr>
        <p:spPr>
          <a:xfrm>
            <a:off x="777960" y="254016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What  do       think      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TextBox 3"/>
          <p:cNvSpPr/>
          <p:nvPr/>
        </p:nvSpPr>
        <p:spPr>
          <a:xfrm>
            <a:off x="1547640" y="3692520"/>
            <a:ext cx="43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ifficult           inter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TextBox 3"/>
          <p:cNvSpPr/>
          <p:nvPr/>
        </p:nvSpPr>
        <p:spPr>
          <a:xfrm>
            <a:off x="468360" y="434016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et’s meet   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TextBox 3"/>
          <p:cNvSpPr/>
          <p:nvPr/>
        </p:nvSpPr>
        <p:spPr>
          <a:xfrm>
            <a:off x="468360" y="4916520"/>
            <a:ext cx="43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hank  you     f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Picture 3" descr="5"/>
          <p:cNvPicPr/>
          <p:nvPr/>
        </p:nvPicPr>
        <p:blipFill>
          <a:blip r:embed="rId2"/>
          <a:stretch/>
        </p:blipFill>
        <p:spPr>
          <a:xfrm>
            <a:off x="2687760" y="260280"/>
            <a:ext cx="3456000" cy="830160"/>
          </a:xfrm>
          <a:prstGeom prst="rect">
            <a:avLst/>
          </a:prstGeom>
          <a:ln w="0">
            <a:noFill/>
          </a:ln>
        </p:spPr>
      </p:pic>
      <p:sp>
        <p:nvSpPr>
          <p:cNvPr id="1396" name="Text Box 4"/>
          <p:cNvSpPr/>
          <p:nvPr/>
        </p:nvSpPr>
        <p:spPr>
          <a:xfrm>
            <a:off x="2771640" y="260280"/>
            <a:ext cx="359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50"/>
                </a:solidFill>
                <a:latin typeface="华文隶书"/>
                <a:ea typeface="华文隶书"/>
              </a:rPr>
              <a:t>单元语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矩形 3"/>
          <p:cNvSpPr/>
          <p:nvPr/>
        </p:nvSpPr>
        <p:spPr>
          <a:xfrm>
            <a:off x="1152360" y="1413000"/>
            <a:ext cx="72360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  <a:ea typeface="Arial"/>
              </a:rPr>
              <a:t>1.What / Why / Who questions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030a0"/>
                </a:solidFill>
                <a:latin typeface="Arial"/>
                <a:ea typeface="Arial"/>
              </a:rPr>
              <a:t>2.Adjective of qualit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75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75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75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2T12:36:09Z</dcterms:created>
  <dc:creator>Administrator</dc:creator>
  <dc:description/>
  <dc:language>en-US</dc:language>
  <cp:lastModifiedBy>微软用户</cp:lastModifiedBy>
  <dcterms:modified xsi:type="dcterms:W3CDTF">2015-06-13T09:47:02Z</dcterms:modified>
  <cp:revision>279</cp:revision>
  <dc:subject/>
  <dc:title>PowerPoint 演示文稿</dc:title>
</cp:coreProperties>
</file>